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16.png" ContentType="image/png"/>
  <Override PartName="/ppt/media/chimes.wav" ContentType="audio/x-wav"/>
  <Override PartName="/ppt/media/image7.wmf" ContentType="image/x-wmf"/>
  <Override PartName="/ppt/media/image1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FB6-7CA9-4D87-95F3-3EB0941F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62F-DFF5-434C-96B3-E8720721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5C2-DDF6-4233-856B-CEF36F50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089-262D-4F4E-9C4A-FED105D4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524-5011-464D-A364-E438C97C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F54-F533-4C35-A9F4-25CB071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83B-4DAD-46EA-9486-64DFCBAB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F73-8F6A-401D-89D7-060B22D8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203-46EF-4EE9-95D4-E105287C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EA4-5F70-4653-9789-F0E7311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BBD-88B4-48E0-A7F4-7B4FC77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A63-4F34-491E-8BC0-41A467A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5DD7-46AF-4A9F-BAB9-335836DF9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SN00560A.wav" TargetMode="External"/><Relationship Id="rId3" Type="http://schemas.microsoft.com/office/2007/relationships/media" Target="file:///tmp/home/.config/libreoffice/4/user/gallery/SN00560A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tchup"/>
              </a:rPr>
              <a:t>Commands and Exclama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Comm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04920" y="1905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 sentence that tells you to do something is a COM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2860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a command sentence, the subject is always you,                              but it is not st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28600" y="3352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xample of a command sent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828800" y="388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itannic Bold"/>
              </a:rPr>
              <a:t>Go take a b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5238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4382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124080" y="5181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itannic Bold"/>
              </a:rPr>
              <a:t>Go take a b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j0232153"/>
          <p:cNvPicPr/>
          <p:nvPr/>
        </p:nvPicPr>
        <p:blipFill>
          <a:blip r:embed="rId1"/>
          <a:stretch/>
        </p:blipFill>
        <p:spPr>
          <a:xfrm>
            <a:off x="6477120" y="3200400"/>
            <a:ext cx="2197080" cy="2158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4572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mand sentence starts with a  capital and ends with a 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08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tchup"/>
              </a:rPr>
              <a:t>More Command Sentences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828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Open your pres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5812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95680" y="1905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4120" y="1828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Open your pres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" y="2590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Drink your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581280" y="2666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95680" y="2666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562720" y="2590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Drink your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33520" y="3352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Sweep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5812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4956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562720" y="3352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Sweep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304920" y="4038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Do your ho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3581280" y="4114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4495680" y="4114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5334120" y="4038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Do your ho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80880" y="4724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Smell the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358128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562720" y="4724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Smell the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44956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3" descr="SO01102_"/>
          <p:cNvPicPr/>
          <p:nvPr/>
        </p:nvPicPr>
        <p:blipFill>
          <a:blip r:embed="rId1"/>
          <a:stretch/>
        </p:blipFill>
        <p:spPr>
          <a:xfrm>
            <a:off x="762120" y="541008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FD01226_"/>
          <p:cNvPicPr/>
          <p:nvPr/>
        </p:nvPicPr>
        <p:blipFill>
          <a:blip r:embed="rId2"/>
          <a:stretch/>
        </p:blipFill>
        <p:spPr>
          <a:xfrm>
            <a:off x="2514600" y="5562720"/>
            <a:ext cx="658800" cy="93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PE02000_"/>
          <p:cNvPicPr/>
          <p:nvPr/>
        </p:nvPicPr>
        <p:blipFill>
          <a:blip r:embed="rId3"/>
          <a:stretch/>
        </p:blipFill>
        <p:spPr>
          <a:xfrm>
            <a:off x="3809880" y="5181480"/>
            <a:ext cx="143856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BD00146_"/>
          <p:cNvPicPr/>
          <p:nvPr/>
        </p:nvPicPr>
        <p:blipFill>
          <a:blip r:embed="rId4"/>
          <a:stretch/>
        </p:blipFill>
        <p:spPr>
          <a:xfrm>
            <a:off x="5715000" y="5410080"/>
            <a:ext cx="144288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NA01007_"/>
          <p:cNvPicPr/>
          <p:nvPr/>
        </p:nvPicPr>
        <p:blipFill>
          <a:blip r:embed="rId5"/>
          <a:stretch/>
        </p:blipFill>
        <p:spPr>
          <a:xfrm>
            <a:off x="7543800" y="5410080"/>
            <a:ext cx="782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Exclam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18288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99"/>
                </a:solidFill>
                <a:latin typeface="Arial"/>
              </a:rPr>
              <a:t>A sentence that shows surprise or strong feelings is an exclam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2438280"/>
            <a:ext cx="8229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99"/>
                </a:solidFill>
                <a:latin typeface="Arial"/>
              </a:rPr>
              <a:t>Strong feelings can be excitement, happiness, fear or ang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28600" y="3352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xample of a exclamation sent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38080" y="42670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itannic Bold"/>
              </a:rPr>
              <a:t>This room is a mes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57150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exclamation sentence starts with a  capital and ends with an exclama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2" descr="j0078984"/>
          <p:cNvPicPr/>
          <p:nvPr/>
        </p:nvPicPr>
        <p:blipFill>
          <a:blip r:embed="rId1"/>
          <a:stretch/>
        </p:blipFill>
        <p:spPr>
          <a:xfrm>
            <a:off x="8458200" y="5334120"/>
            <a:ext cx="34776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PE01310_"/>
          <p:cNvPicPr/>
          <p:nvPr/>
        </p:nvPicPr>
        <p:blipFill>
          <a:blip r:embed="rId2"/>
          <a:stretch/>
        </p:blipFill>
        <p:spPr>
          <a:xfrm>
            <a:off x="6019920" y="2895480"/>
            <a:ext cx="28954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Exclam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0880" y="1752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ometimes an Exclamation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600" y="243828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Be Careful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981080" y="259092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Arial"/>
              </a:rPr>
              <a:t>It won’t be asking a ques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8600" y="32767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xample of a exclamation sent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219320" y="3809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itannic Bold"/>
              </a:rPr>
              <a:t>What a lovely surpris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19920" y="27432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Arial"/>
              </a:rPr>
              <a:t>You can’t answer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28600" y="464832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80"/>
                </a:solidFill>
                <a:latin typeface="Arial"/>
              </a:rPr>
              <a:t>It starts with a question word, but can you answer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6" descr="j0078984"/>
          <p:cNvPicPr/>
          <p:nvPr/>
        </p:nvPicPr>
        <p:blipFill>
          <a:blip r:embed="rId1"/>
          <a:stretch/>
        </p:blipFill>
        <p:spPr>
          <a:xfrm>
            <a:off x="8381880" y="5562720"/>
            <a:ext cx="347760" cy="9349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7"/>
          <p:cNvSpPr txBox="1"/>
          <p:nvPr/>
        </p:nvSpPr>
        <p:spPr>
          <a:xfrm>
            <a:off x="6858000" y="5105520"/>
            <a:ext cx="106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N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04920" y="57150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exclamation sentence starts with a  capital and ends with an exclama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9" descr="j0079101"/>
          <p:cNvPicPr/>
          <p:nvPr/>
        </p:nvPicPr>
        <p:blipFill>
          <a:blip r:embed="rId2"/>
          <a:stretch/>
        </p:blipFill>
        <p:spPr>
          <a:xfrm>
            <a:off x="7010280" y="3276720"/>
            <a:ext cx="15242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clamation Sentenc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19051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It’s a bi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04920" y="2590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I love my pres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32004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How beauti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28600" y="3886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What a big bab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04920" y="4495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It’s a touchd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9" descr="AN01108_"/>
          <p:cNvPicPr/>
          <p:nvPr/>
        </p:nvPicPr>
        <p:blipFill>
          <a:blip r:embed="rId1"/>
          <a:stretch/>
        </p:blipFill>
        <p:spPr>
          <a:xfrm>
            <a:off x="457200" y="5257800"/>
            <a:ext cx="12733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SO01102_"/>
          <p:cNvPicPr/>
          <p:nvPr/>
        </p:nvPicPr>
        <p:blipFill>
          <a:blip r:embed="rId2"/>
          <a:stretch/>
        </p:blipFill>
        <p:spPr>
          <a:xfrm>
            <a:off x="2362320" y="533412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BD07456_"/>
          <p:cNvPicPr/>
          <p:nvPr/>
        </p:nvPicPr>
        <p:blipFill>
          <a:blip r:embed="rId3"/>
          <a:stretch/>
        </p:blipFill>
        <p:spPr>
          <a:xfrm>
            <a:off x="4191120" y="5105520"/>
            <a:ext cx="803160" cy="146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2" descr="SO00769_"/>
          <p:cNvPicPr/>
          <p:nvPr/>
        </p:nvPicPr>
        <p:blipFill>
          <a:blip r:embed="rId4"/>
          <a:stretch/>
        </p:blipFill>
        <p:spPr>
          <a:xfrm>
            <a:off x="5638680" y="5257800"/>
            <a:ext cx="129240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3" descr="SO00578_"/>
          <p:cNvPicPr/>
          <p:nvPr/>
        </p:nvPicPr>
        <p:blipFill>
          <a:blip r:embed="rId5"/>
          <a:stretch/>
        </p:blipFill>
        <p:spPr>
          <a:xfrm>
            <a:off x="7391520" y="5257800"/>
            <a:ext cx="10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Let’s Practi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tchup"/>
              </a:rPr>
              <a:t>Command or Excl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reeform 2"/>
          <p:cNvSpPr/>
          <p:nvPr/>
        </p:nvSpPr>
        <p:spPr>
          <a:xfrm rot="18427200">
            <a:off x="776988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nd or Excl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4"/>
          <p:cNvSpPr/>
          <p:nvPr/>
        </p:nvSpPr>
        <p:spPr>
          <a:xfrm rot="18427200">
            <a:off x="7857360" y="24840"/>
            <a:ext cx="1164960" cy="2097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5"/>
          <p:cNvSpPr/>
          <p:nvPr/>
        </p:nvSpPr>
        <p:spPr>
          <a:xfrm rot="18427200">
            <a:off x="7823160" y="191880"/>
            <a:ext cx="1025640" cy="15714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117" name="Freeform 7"/>
            <p:cNvSpPr/>
            <p:nvPr/>
          </p:nvSpPr>
          <p:spPr>
            <a:xfrm rot="906600">
              <a:off x="52200" y="5361120"/>
              <a:ext cx="1728720" cy="10299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906600">
              <a:off x="1685160" y="5695560"/>
              <a:ext cx="112680" cy="204120"/>
            </a:xfrm>
            <a:prstGeom prst="pi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 rot="906600">
              <a:off x="-7560" y="5716800"/>
              <a:ext cx="1257480" cy="65052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906600">
              <a:off x="160200" y="5759640"/>
              <a:ext cx="833400" cy="5932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 rot="906600">
              <a:off x="882720" y="5410080"/>
              <a:ext cx="214200" cy="191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 rot="906600">
              <a:off x="864000" y="6429960"/>
              <a:ext cx="120600" cy="17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 rot="906600">
              <a:off x="825120" y="5537880"/>
              <a:ext cx="306360" cy="607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 rot="906600">
              <a:off x="1122120" y="5620680"/>
              <a:ext cx="577800" cy="2757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 rot="906600">
              <a:off x="614880" y="5605560"/>
              <a:ext cx="247680" cy="106200"/>
            </a:xfrm>
            <a:prstGeom prst="pi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6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127" name="Group 17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128" name="Freeform 18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19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20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Freeform 21"/>
              <p:cNvSpPr/>
              <p:nvPr/>
            </p:nvSpPr>
            <p:spPr>
              <a:xfrm rot="906600">
                <a:off x="133920" y="5639040"/>
                <a:ext cx="944640" cy="39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2"/>
              <p:cNvSpPr/>
              <p:nvPr/>
            </p:nvSpPr>
            <p:spPr>
              <a:xfrm rot="906600">
                <a:off x="383040" y="588132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3"/>
              <p:cNvSpPr/>
              <p:nvPr/>
            </p:nvSpPr>
            <p:spPr>
              <a:xfrm rot="906600">
                <a:off x="920520" y="5661360"/>
                <a:ext cx="169920" cy="37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24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135" name="Freeform 25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26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27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28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29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0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1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2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" name="Group 33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144" name="Freeform 34"/>
            <p:cNvSpPr/>
            <p:nvPr/>
          </p:nvSpPr>
          <p:spPr>
            <a:xfrm flipH="1">
              <a:off x="8672400" y="4159080"/>
              <a:ext cx="325440" cy="2265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 flipH="1">
              <a:off x="8732880" y="2116080"/>
              <a:ext cx="325440" cy="2592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36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147" name="Group 37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148" name="Freeform 38"/>
              <p:cNvSpPr/>
              <p:nvPr/>
            </p:nvSpPr>
            <p:spPr>
              <a:xfrm rot="18427200">
                <a:off x="861192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Group 39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150" name="Freeform 40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41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2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43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44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45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46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47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Line 48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49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Close the d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2880" y="411480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you to do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2744280" y="4648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4"/>
          <p:cNvSpPr/>
          <p:nvPr/>
        </p:nvSpPr>
        <p:spPr>
          <a:xfrm>
            <a:off x="4251960" y="198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mand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65760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9"/>
          <p:cNvSpPr/>
          <p:nvPr/>
        </p:nvSpPr>
        <p:spPr>
          <a:xfrm>
            <a:off x="2209680" y="5105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Close the d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0" descr="BD07236_"/>
          <p:cNvPicPr/>
          <p:nvPr/>
        </p:nvPicPr>
        <p:blipFill>
          <a:blip r:embed="rId1"/>
          <a:stretch/>
        </p:blipFill>
        <p:spPr>
          <a:xfrm>
            <a:off x="5562720" y="1600200"/>
            <a:ext cx="222084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1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208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2"/>
          <p:cNvSpPr/>
          <p:nvPr/>
        </p:nvSpPr>
        <p:spPr>
          <a:xfrm rot="18427200">
            <a:off x="776988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nd or Excl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4"/>
          <p:cNvSpPr/>
          <p:nvPr/>
        </p:nvSpPr>
        <p:spPr>
          <a:xfrm rot="18427200">
            <a:off x="7857360" y="24840"/>
            <a:ext cx="1164960" cy="2097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"/>
          <p:cNvSpPr/>
          <p:nvPr/>
        </p:nvSpPr>
        <p:spPr>
          <a:xfrm rot="18427200">
            <a:off x="7823160" y="191880"/>
            <a:ext cx="1025640" cy="15714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175" name="Freeform 7"/>
            <p:cNvSpPr/>
            <p:nvPr/>
          </p:nvSpPr>
          <p:spPr>
            <a:xfrm rot="906600">
              <a:off x="52200" y="5361120"/>
              <a:ext cx="1728720" cy="10299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 rot="906600">
              <a:off x="1685160" y="5695560"/>
              <a:ext cx="112680" cy="204120"/>
            </a:xfrm>
            <a:prstGeom prst="pi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 rot="906600">
              <a:off x="-7560" y="5716800"/>
              <a:ext cx="1257480" cy="65052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 rot="906600">
              <a:off x="160200" y="5759640"/>
              <a:ext cx="833400" cy="5932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 rot="906600">
              <a:off x="882720" y="5410080"/>
              <a:ext cx="214200" cy="191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 rot="906600">
              <a:off x="864000" y="6429960"/>
              <a:ext cx="120600" cy="17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 rot="906600">
              <a:off x="825120" y="5537880"/>
              <a:ext cx="306360" cy="607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 rot="906600">
              <a:off x="1122120" y="5620680"/>
              <a:ext cx="577800" cy="2757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 rot="906600">
              <a:off x="614880" y="5605560"/>
              <a:ext cx="247680" cy="106200"/>
            </a:xfrm>
            <a:prstGeom prst="pi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16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185" name="Group 17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186" name="Freeform 18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9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20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Freeform 21"/>
              <p:cNvSpPr/>
              <p:nvPr/>
            </p:nvSpPr>
            <p:spPr>
              <a:xfrm rot="906600">
                <a:off x="133920" y="5639040"/>
                <a:ext cx="944640" cy="39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22"/>
              <p:cNvSpPr/>
              <p:nvPr/>
            </p:nvSpPr>
            <p:spPr>
              <a:xfrm rot="906600">
                <a:off x="383040" y="588132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23"/>
              <p:cNvSpPr/>
              <p:nvPr/>
            </p:nvSpPr>
            <p:spPr>
              <a:xfrm rot="906600">
                <a:off x="920520" y="5661360"/>
                <a:ext cx="169920" cy="37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24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193" name="Freeform 25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26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27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28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29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30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31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32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Group 33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202" name="Freeform 34"/>
            <p:cNvSpPr/>
            <p:nvPr/>
          </p:nvSpPr>
          <p:spPr>
            <a:xfrm flipH="1">
              <a:off x="8672400" y="4159080"/>
              <a:ext cx="325440" cy="2265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 flipH="1">
              <a:off x="8732880" y="2116080"/>
              <a:ext cx="325440" cy="2592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36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205" name="Group 37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206" name="Freeform 38"/>
              <p:cNvSpPr/>
              <p:nvPr/>
            </p:nvSpPr>
            <p:spPr>
              <a:xfrm rot="18427200">
                <a:off x="861192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Group 39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208" name="Freeform 40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41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42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43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44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45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46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47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Line 48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Text Box 49"/>
          <p:cNvSpPr/>
          <p:nvPr/>
        </p:nvSpPr>
        <p:spPr>
          <a:xfrm>
            <a:off x="-4572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What a huge fo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0"/>
          <p:cNvSpPr/>
          <p:nvPr/>
        </p:nvSpPr>
        <p:spPr>
          <a:xfrm>
            <a:off x="533520" y="28195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l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1"/>
          <p:cNvSpPr/>
          <p:nvPr/>
        </p:nvSpPr>
        <p:spPr>
          <a:xfrm>
            <a:off x="1070280" y="33526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2"/>
          <p:cNvSpPr/>
          <p:nvPr/>
        </p:nvSpPr>
        <p:spPr>
          <a:xfrm>
            <a:off x="452520" y="388620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3"/>
          <p:cNvSpPr/>
          <p:nvPr/>
        </p:nvSpPr>
        <p:spPr>
          <a:xfrm>
            <a:off x="914400" y="4419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oes it ask a question, can it be answ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4"/>
          <p:cNvSpPr/>
          <p:nvPr/>
        </p:nvSpPr>
        <p:spPr>
          <a:xfrm>
            <a:off x="4105080" y="1981080"/>
            <a:ext cx="3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5"/>
          <p:cNvSpPr/>
          <p:nvPr/>
        </p:nvSpPr>
        <p:spPr>
          <a:xfrm>
            <a:off x="1219320" y="5943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xclamation sentence starts with a capital letter and ends with an exclamation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6"/>
          <p:cNvSpPr/>
          <p:nvPr/>
        </p:nvSpPr>
        <p:spPr>
          <a:xfrm>
            <a:off x="4038480" y="487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7"/>
          <p:cNvSpPr/>
          <p:nvPr/>
        </p:nvSpPr>
        <p:spPr>
          <a:xfrm>
            <a:off x="1828800" y="53341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What a huge fore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0" descr="TR00387_"/>
          <p:cNvPicPr/>
          <p:nvPr/>
        </p:nvPicPr>
        <p:blipFill>
          <a:blip r:embed="rId1"/>
          <a:stretch/>
        </p:blipFill>
        <p:spPr>
          <a:xfrm>
            <a:off x="5334120" y="18288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2" descr=""/>
          <p:cNvPicPr/>
          <p:nvPr/>
        </p:nvPicPr>
        <p:blipFill>
          <a:blip r:embed="rId2"/>
          <a:stretch/>
        </p:blipFill>
        <p:spPr>
          <a:xfrm>
            <a:off x="685800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7529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20:44:39Z</dcterms:created>
  <dc:creator>mcaro</dc:creator>
  <dc:description/>
  <dc:language>en-US</dc:language>
  <cp:lastModifiedBy>Laura McDow</cp:lastModifiedBy>
  <dcterms:modified xsi:type="dcterms:W3CDTF">2010-09-09T22:40:10Z</dcterms:modified>
  <cp:revision>10</cp:revision>
  <dc:subject/>
  <dc:title>Commands and Exclamations</dc:title>
</cp:coreProperties>
</file>